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5A10-5DF4-4898-9AB5-2523E953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91BA-8A5E-45C7-BB45-357FC3EC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EBFB-920F-4053-930D-446E1BB1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BE21-DB8F-460B-ACAE-9A72ED4F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15B5-00A6-4E9A-8D6B-7704612F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3419-26FC-4BC0-BE82-4AD834F8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B22E-4EB5-42D3-A8FA-ACE43DB2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4E4F-8C69-4760-8DAC-281C1358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61EE-E916-4D57-872D-1815826C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60F1-6152-4E1B-A7B3-39B6A5B1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FC66-29EE-4B10-A9D4-97DB3BD5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3B70-B03D-4808-AE67-19838027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E942-48DE-4642-B22F-4F7353F7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7EF7-7C3C-4A70-A03A-B0C71B1B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63B0-3A2B-43DC-89BC-83E4B962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8362-6088-4BBA-A79F-EFB5A0D9E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19E6-C14E-4418-9D43-32ABBA8F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A44DA-0F04-48C9-85ED-3916397B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4D35C-056E-4938-900C-4C0D8E97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64F5A-ED3C-4E98-A8CD-497289DE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ADE88-3CBE-4AFF-803A-5D380AA9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F70CB-26B5-4994-9832-EFEABC15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6562-C0E1-41A5-96F4-5603091C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7EB8D-1209-4BD1-AB28-B4957B7A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A5F40-3B31-4A6B-BE4D-CE3DDEF3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D5193-C9F5-46E8-913E-0A21E825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58B1C-F701-47D7-A241-BB70EF9A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BEB28-603D-42D2-A2D5-87609782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5CAD9-3C40-492A-BE73-090B9FAA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CBF33-2D32-4FD2-8A19-279B6B8F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6DCCD-AD57-4654-9578-79A5A8C0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12945-4717-4A8A-B035-67B3B7FC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FC6AC-0F87-4118-AAA2-7552DFA6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B192-FB89-4C2C-A100-2BF568DC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BF750-8FD8-4D95-97EE-E6264454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3A8C1-DE09-47A6-BD56-85893DA6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78F78-6A7C-453C-8A6E-C88E8849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BC65D-1A8C-45FA-BBA6-717506DB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ADF1A-E2F2-4FD6-8E38-B311A7D0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53D5F-5ECC-456D-8E87-4AAF53A6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FF22C-D024-45C3-9B57-43AFAB85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0FB6B-43C0-4AD5-B3B6-54446E5FD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3D6F2-4E6B-497E-95DE-E21AD6E7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C17E0-693F-4EE0-AB89-0F078E2C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7D15-701E-4CD7-BBD6-9BFB180C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F0E62-495C-4B26-8503-F19ABE57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08ED2-3A4C-4B62-8157-3832BCDB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30079-4F57-4682-97A3-43113981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9EE1B-36BB-4836-8AD2-99BC0E08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1530D-864A-4974-B9E8-D73FF829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B5F52-D344-48A1-A9FA-BA110025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F20B5-5680-432A-8BB6-C4445B60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CCD72-65EF-472A-BB72-5B830E0D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A576F-6F69-48CE-92AF-9C34F78D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F8AB7-6C39-4C15-B8E1-772144BC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C27D-02EE-4DBD-8206-D8AF3136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D7830-15B6-4711-ACC0-050BE6EF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3F8BA-5564-4B40-9DF6-A7EF72EB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75835-6B96-4909-909F-B385DFB1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5FDCC-6EEE-4AC7-AA09-45B014A3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6D2B0-F2EC-4171-BDF3-E1578986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26697-6FC9-459B-A1F3-3C92F5EA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2157C-47DF-42B1-919B-50AD58ED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71957-5623-4B33-B413-990C7AF2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72615-0C59-43E8-B15C-DA59A421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03E6F-7510-4714-A8A6-27D5C979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DFF2-E483-4095-9F09-F44CEDCC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0E95F-DBCE-480C-85D6-E10948AB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543F7-FBB3-445E-BFC0-5B7BED58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BECFF-6712-4354-8E37-05CCCCF1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A74F0-7DFC-48C7-B070-13F91291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4A905-3C85-46F7-B2A3-546212E9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33060-FD7B-44E3-B038-D356A0F2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818BD-54B8-4FCF-8874-A035F091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C89A9-91BA-42EF-9FBA-85587928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85266-2997-4D8D-8251-F94A793D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916D9-6309-4EFA-9463-304BE4EF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DA25-FD8B-4EAF-9F96-BA5DD253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6590F-EC1C-4546-B479-91FA7496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7348A-FFDA-4C46-BE23-9213F676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8FDA4-C141-4421-B654-C6125A22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5C302-6DB1-4318-8A39-FC01C3C6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9ED7B-CC5E-4C16-8492-34E7653C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803D-90F4-4AFA-8B8D-1FB8D16B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C262-1926-4E3A-B8C2-E3ADCECB4E5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AC80-C59B-418F-A8E8-2B752DF7065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433F-6388-41E3-9AF9-258BD4D8E4C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B0D2-EE61-4D52-A357-FCD3540A2A7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41AC-1953-45B9-B42D-356BAADD01B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6713-0426-4BED-94C5-705536E2165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7264-5FF6-4E4A-8915-3CE8BAEB50A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nfi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Writing the truth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iograph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-depth look at individual’s lif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ritten by someone other than the individual being discuss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biographers make objective views based on the documents and date present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biographers make subjective statements for the rea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utobiograph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riter is innately subjective about what he or she wri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elling of events in one’s own lif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ying to set the record straight about an issu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times used for gain (often politically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oaded Languag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nguage that includes bi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y use loaded languag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ffective when you want to get someone to do something – “Tax relief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rries strong connot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n be positive or negati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ep emotional associ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oaded Language (cont.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o-Nazi Ral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LK’s “I have a dream” spee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liticia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o els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naly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is my author trying to convey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is the purpose of the writing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is the information conveye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int of view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y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is this told (reflective, etc.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is the audience targete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y write about this topic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nalysis (cont.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was this written?  Wher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does the author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ell m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 the author biased?  Neutral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re there phrases that seem unclear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y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yle – how the writer conveys the inform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does my writer convey the inf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 this a story?  Expository?  Reflectiv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 the author trying to be funny, sad, etc.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is the style of the author’s other writing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is the tone of the piec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yle (cont.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is the theme?  Clearly define thi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are the sentences crafte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 / shor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hrase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un-on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is the theme interwoven throughout the piec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ypes of Essay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posito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nlighten the rea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ually carries an informative to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 alway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esents factual inform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arrati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elling a st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formation presented in chronological or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der is guided alo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ypes of Essays (cont.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rsuasi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fluence the reader to take a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king the reader to accept an opin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s facts to back up the opin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riting about a single event, object, or place in vivid det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d to create a sensory feeling for the rea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ypes of Essays (cont.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flecti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author reflects upon an event that occurred within his or her own lif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nerally shows a lesson learned by the auth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se styles of writing are often blended together, creating a mixed essays of sorts.  However, the essay can generally be classified into one of the main categori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iography &amp; Autobiograph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scover a philosophy or point of view on life about an individu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y to capture the qualities of a character that distinguish the individual’s lif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n be about anyo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uld be organized around a couple major events or the entire lif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1:08Z</dcterms:created>
  <dc:creator>Administrator</dc:creator>
  <dc:description/>
  <dc:language>en-US</dc:language>
  <cp:lastModifiedBy>Administrator</cp:lastModifiedBy>
  <dcterms:modified xsi:type="dcterms:W3CDTF">2009-11-13T14:46:46Z</dcterms:modified>
  <cp:revision>6</cp:revision>
  <dc:subject/>
  <dc:title>Nonfiction</dc:title>
</cp:coreProperties>
</file>